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EE9-BA92-442E-93BF-B1FBDE91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E76-B571-4CD4-A444-266A7F34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4C136-E048-4482-84F6-22AA97C8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9DA7F-2D3F-49BB-9EF6-AE11DEEF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037E3-7ED4-4598-A9EF-8EADA103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88BB8-36B4-4312-97B8-04453C11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2373D-555A-4D45-8435-9F9E69B5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01B8B-B3A8-4FB0-BC9A-E89779F7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DF6BB-0B78-4FF1-9AED-2E3CAE04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1622B-1F2B-4E17-B4D2-9F34AFE2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F89CC-C587-482D-AF13-7E5D75C6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C31A3-8C65-4F0D-9848-9FBD6C2C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D25-EC3F-4D97-98DD-B5C4FCB9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FE0F6-DEC3-4F41-8CBE-FFBBE2D1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B7B5A-8665-4D00-BA66-6CE2977C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AABD4-28E7-4EE5-AB12-F587961F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41491-F411-4B0B-B700-AE5552C5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404D9-54A6-4F17-8010-663AF6B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A60EC-40CA-4B97-B805-248C1C35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871B4-0B67-49C7-B4FE-00D4EB80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81232-757C-4C58-8886-35D07D5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CF55E-FA43-4E5E-BBDA-8BBF5D4D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F54FA-B611-4A8D-A37A-97762903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355-7390-42C1-AB28-8EBFD6C9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C0C15-8ED3-459C-90C1-4F54D506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48DE-330A-48C2-A7D2-C171C2C1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F310-98D2-4222-8D86-88DA496B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0950-2DCF-438C-AEA2-5910F3AC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27ED-2616-4E06-84C0-C84459D7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56C7-63CC-45D6-A13E-8916CDD5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B95C-EE79-4731-AE5D-DA88AACF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752A-AECB-47B4-857F-BBAE0292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09F-0B30-4AB6-9750-E4369107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9170-E0CD-4A3E-BE3E-9BCEB69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1F87-EC89-44CB-8750-26671BD3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32C8-7413-4D22-8429-DE4BF731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218F-3F2D-4F14-96FE-91E3AC7C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1368-8B49-446A-94A0-000CFBFB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B45F-1CA7-466B-BF5C-D683E928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F529-DAEA-4481-8456-0BED74C4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96156-A111-4BA8-8959-AA457778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87DC-A1A3-4B1F-80E6-E42912FB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4758-607D-4343-98F2-9CF4502C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928-EA3F-47D8-872E-9ACB5D62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082B-3F8D-46C2-A9C2-30925312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F331-23A5-40F1-AFB0-666B90B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2DFE-3219-4B38-8071-24FD9060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FC2D-F785-4B85-8F9C-1E59A422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60B6-77F6-463D-88FD-CCB0EE8F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33F5-0F89-4D01-B664-3BB9486E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0F70-E77E-4A19-9868-DBE56AE7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AFBF1-1BD4-4358-8042-347DA4F9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7F16F-EC41-4642-9CF4-C2F3BE78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010A-C686-46D3-BC41-2BBE02CF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26C-8632-4297-838D-766FC645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74871-FE77-4F4E-A1B8-5E7F320C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7E14-D3BC-4991-9EB7-C0DDFE4F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2D6E2-FA90-4ACE-AC6E-179B37EC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77A29-EFEF-49AC-9D33-C9263510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4C2EB-CDD6-4D65-BE5A-FC2CD309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F4C7-4474-462D-8FDA-C819F774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2245-C652-4730-BF35-3F45779E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333E-4D5B-48DA-85B2-C587C263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B1AC1-90DC-483D-BFD5-D5DD339B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8FD88-B908-4B72-8C6D-475430B7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CC4-6168-4757-996D-AA660977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9B607-CA62-4DE0-9A61-E530F595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F7B53-1D67-4643-BAF1-0566CE93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7397A-604B-471D-AD43-18F05F6B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36605-8EF9-486F-B0B4-32B75DF4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B969D-6DA9-4F4B-A827-376FD6D8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850C-CEA8-4AE1-BE04-EC50875E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36CF8-9D45-4AFF-BFB2-BE227AE3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A361C-A79B-4C0B-8704-C3ABF66C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4502-C5BE-4135-9777-02CC6196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DAEE0-9679-45F6-9510-4244826F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EB3-C6E4-40E9-92B1-EC054C67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841B2-399D-4264-B51C-537F629C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246CA-9F58-426E-9C05-97E1D912A0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C70A1-B19E-4F91-BFEE-8652C44E1CD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7E896-017C-479D-8D07-DC03B8135B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3582D-423B-461C-89AD-53789262D62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4DC61-F41B-41BD-88BF-ED39C67613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ED11B-2630-474C-8C22-4622835C6E1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713DF-E6D5-4E1B-8793-094DA84D2C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2C4F2-1EAA-4D2B-8B27-83F3BA904B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0AF4C-05DD-4995-B4EA-660E389B2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7C3-0B0C-425C-8CA5-67FC5270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32A29-598C-4201-8E05-334ADE6D8B0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9421A-3576-4209-8919-4ED2232672C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00600-8A8C-479D-B8B4-4EB026FAA23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0E3FEF-888D-4DB4-A559-29FC62DBA1F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C3BCC9-E614-48EF-B1F5-151EC0ADD6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096614-31C8-4A38-8D4A-30D730BB069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FFA07E-3E0C-43B7-B0C1-79B5A9EA596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6600E5-F957-48CC-A3E5-2F7AE167467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99372F-1314-43F5-9171-EFC7A817E93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D6A98F-9762-4191-B288-F7CAE2CA0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62F-A2A2-4939-831A-432AA432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FB36A3-94E8-42AC-A3D7-DE6DE8E8B0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838C73-3F37-4021-BB97-F99EF46459B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AE5AED-3D74-4137-BDA8-50F80CAAB5C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888664-2383-42D1-8E39-E4C1B2E49C0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63A82E-6EA4-4864-AC59-296D06243EF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6D887D-6DF4-4BC4-9EB2-B605E309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2E6CF-6BEB-44A2-BADF-922CF6D3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FA5446-29E9-432F-8239-78616E30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7B39D1-E69E-4214-A24D-41B10BBC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113AF6-95B9-4CBB-A935-B9955986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28B-94B0-40E4-B9E5-A31B7A81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F22AB2-C554-40EE-A5C1-C83D5E52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32D038-3722-47D5-ABEC-ABF1E69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FABAC0-D6E1-4CAC-9D04-0DECB58F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23F9F3-18A6-47EC-B6DE-5CD2C42E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4054D2-EAD6-4C30-BBBB-20BF6A9E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EDA2DE-1CAA-4ED6-B076-B26854AE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078300-D6DA-4FD2-8A2B-6262D99B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C2C29-92AA-40B3-8C15-38A0E0DF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2E753-BE28-4DDD-9F4E-ED20A4A6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50FB6-1AA1-49CE-AC32-6FD41173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3E79B36-B79E-4447-BFB9-F4950A963B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75BF35B-0040-4EF0-ACC3-A9B70DA96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557F92E-FF95-4289-A7C6-070373882F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8EB7EB7-E42E-4C5F-96FC-626D5573B9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B1036A7-A7A2-4DC3-8DA8-6369A54C4E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6067CB0-0A6A-48D6-AD18-1447FD3913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7A08BF5-C914-4FCD-A7DD-EED031B73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514C45A-9A21-4C2D-B5FF-A69E17112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sts in the Long Ru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 advantages achieved as a result of large-scale opera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ms in industries characterized by assembly-line production of standardized products tend to experience declining long-run average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se industries are often dominated by a few large firm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3C3D12C-2C27-44FC-B9EB-F3AD510E3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asons for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plants are able to exploit specialization of labour on a far greater scale than small pl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-scale production encourages management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 scale production encourages machine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firms enjoy pecuniar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FC345EA-0746-47AB-91EE-7281F904C8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ecuniary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cost of borrow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l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es of scale in marketing and advertis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0571DEFA-58C6-4815-A473-F9B526C43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115640" y="371160"/>
            <a:ext cx="72723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84803AB-457D-4554-A7D0-F6528DD2F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ftp://ftp.eppg.com/Sayre%20Micro%20images/Chapter%207/SAYRE-MICRO-7-F-7-2.jpg"/>
          <p:cNvPicPr/>
          <p:nvPr/>
        </p:nvPicPr>
        <p:blipFill>
          <a:blip r:embed="rId1"/>
          <a:srcRect l="11507" t="11776" r="32612" b="0"/>
          <a:stretch/>
        </p:blipFill>
        <p:spPr>
          <a:xfrm>
            <a:off x="903240" y="1552680"/>
            <a:ext cx="6932520" cy="47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B7E3B330-9D0F-43BE-8611-00B44E01E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FE1493C-C1A8-4FAC-84B5-B4255DF1F2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Box 10"/>
          <p:cNvSpPr/>
          <p:nvPr/>
        </p:nvSpPr>
        <p:spPr>
          <a:xfrm>
            <a:off x="584280" y="4851360"/>
            <a:ext cx="771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1:  increasing returns to scale.  (Average cost drop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from $171.43 to $16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2:  constant returns to scale.  (The average cost remain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same at $450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s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reaucratic inefficiencies in management that result in decreasing returns to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creasing Returns to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a smaller percentage tha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3E538EC-F41D-4EA0-A1C4-9EDDA414B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RAC Curve under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666F1F5-DA3A-4838-A751-43573FD3A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2" descr="ftp://ftp.eppg.com/Sayre%20Micro%20images/Chapter%207/SAYRE-MICRO-7-F-7-3.jpg"/>
          <p:cNvPicPr/>
          <p:nvPr/>
        </p:nvPicPr>
        <p:blipFill>
          <a:blip r:embed="rId1"/>
          <a:srcRect l="10145" t="11151" r="35676" b="0"/>
          <a:stretch/>
        </p:blipFill>
        <p:spPr>
          <a:xfrm>
            <a:off x="1414440" y="1454040"/>
            <a:ext cx="6315120" cy="491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29E45AA0-CB9F-4246-B233-45FFB9293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E0E9DF3B-A75E-4FD2-A354-DB2E63DBF0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542880" y="53341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returns to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B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conomies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36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Distinguish between the short run and the long run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why medium-sized firms are sometimes just as efficient as big firm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why big firms sometimes enjoy great cost advantag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nderstand why firms can sometimes be too big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E71DB811-BE99-41CC-9325-524AB9441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14B4BC2-9368-48CD-9F54-04F91831AC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552600" y="5322960"/>
            <a:ext cx="83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C:  economies of scale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5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6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D:  diseconomies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8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Changes in Short Ru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and Long Run Costs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echnological Improv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production techniques that reduce the costs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uses a decrease in short-run cos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long-run average cost curve is derived from short-run cost curves, the long-run average costs  also decreas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3482587-41E1-4A46-8294-FF513CCC6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7FE0D50-2141-48A2-839D-1429A8975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2" descr="ftp://ftp.eppg.com/Sayre%20Micro%20images/Chapter%207/SAYRE-MICRO-7-F-7-4.jpg"/>
          <p:cNvPicPr/>
          <p:nvPr/>
        </p:nvPicPr>
        <p:blipFill>
          <a:blip r:embed="rId1"/>
          <a:srcRect l="-99" t="-1513" r="10109" b="0"/>
          <a:stretch/>
        </p:blipFill>
        <p:spPr>
          <a:xfrm>
            <a:off x="0" y="14796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0C78CBE3-08DB-41B6-8707-AA7F111E1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2" descr="ftp://ftp.eppg.com/Sayre%20Micro%20images/Chapter%207/SAYRE-MICRO-7-F-7-5.jpg"/>
          <p:cNvPicPr/>
          <p:nvPr/>
        </p:nvPicPr>
        <p:blipFill>
          <a:blip r:embed="rId1"/>
          <a:srcRect l="-119" t="-2579" r="-2003" b="0"/>
          <a:stretch/>
        </p:blipFill>
        <p:spPr>
          <a:xfrm>
            <a:off x="0" y="114768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58800" y="1775880"/>
            <a:ext cx="80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nimum Efficient Scale (MES)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mallest sized plant capable of achieving the lowest long-run average cost of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C5A6A82-2CA7-48B3-8C20-0D0173807B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02A12CB-7432-42EE-B00F-C14830CBC9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2" descr="ftp://ftp.eppg.com/Sayre%20Micro%20images/Chapter%207/SAYRE-MICRO-7-F-7-6.jpg"/>
          <p:cNvPicPr/>
          <p:nvPr/>
        </p:nvPicPr>
        <p:blipFill>
          <a:blip r:embed="rId1"/>
          <a:srcRect l="0" t="0" r="8158" b="0"/>
          <a:stretch/>
        </p:blipFill>
        <p:spPr>
          <a:xfrm>
            <a:off x="0" y="1542960"/>
            <a:ext cx="9144000" cy="447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E5B7BBA-04EB-484A-8B84-144DE4C273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always operate in the short ru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can plan as if they are in the long run where all inputs are variable and diminishing marginal productivity does not app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tant returns to scale exist when an increase in inputs result in a proportional increase in outpu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conomies of scale involves either technical or pecuniary economi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5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E60D40D-0053-43E8-B3D8-4F806A5C2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Diseconomies of scale can occur due to inefficienc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costs can decrease due to a decrease in factor prices,  technological improvement, or mergers reduce average fixed co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firm is the right size if it captures economies of scale but does not suffer diseconom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market is too small if it limits output to below economic capacity (SR) or below minimum efficient scale (LR)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effect of technological change on a firm’s cost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 Explain what is meant by the right size of firm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7:  Explain why markets can sometimes be too smal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17D78DD-3685-479B-B46C-232754FCF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4772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riod of time during which all inputs are vari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 production processes operate in the short run, and diminishing marginal productivity appli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the long run, all costs are variable and diminishing marginal productivity does not app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irm can plan as if it is in the long run, but it always operates in the short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0404399-3FEC-438B-AA7B-4C37D7AF8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Average Cost Curve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per unit costs of production in the long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stant Returns to Scale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the same percentage as the increase i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2CD9E36-1E4E-4526-99BE-E26EE4EC8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Costs of Production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 Four Plant Sizes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3DAB05B-3168-4A84-83FC-2BC0565654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ftp://ftp.eppg.com/Sayre%20Micro%20images/Chapter%207/SAYRE-MICRO-7-F-7-1.jpg"/>
          <p:cNvPicPr/>
          <p:nvPr/>
        </p:nvPicPr>
        <p:blipFill>
          <a:blip r:embed="rId1"/>
          <a:srcRect l="37371" t="12916" r="8450" b="0"/>
          <a:stretch/>
        </p:blipFill>
        <p:spPr>
          <a:xfrm>
            <a:off x="649440" y="1563840"/>
            <a:ext cx="7813440" cy="47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F60FD49-4248-4838-8B8F-D9192870C6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 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ADBB0DF-7933-42BA-9A3A-FA06C421E7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Plant 3    (It is the lowest average cost for that outpu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Rectangle 9"/>
          <p:cNvSpPr/>
          <p:nvPr/>
        </p:nvSpPr>
        <p:spPr>
          <a:xfrm>
            <a:off x="1552680" y="5359320"/>
            <a:ext cx="60703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49444A5-383F-4009-86E7-84D612BA7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6  (It is the lowest average cost in all three plant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9"/>
          <p:cNvSpPr/>
          <p:nvPr/>
        </p:nvSpPr>
        <p:spPr>
          <a:xfrm>
            <a:off x="3295800" y="4508640"/>
            <a:ext cx="68076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149800" y="4916520"/>
            <a:ext cx="6811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978600" y="5340240"/>
            <a:ext cx="681120" cy="447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45Z</dcterms:modified>
  <cp:revision>255</cp:revision>
  <dc:subject/>
  <dc:title>Slide 1</dc:title>
</cp:coreProperties>
</file>